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D947E-CED0-48F7-9997-CBD0E75E4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A699A-5FAF-44D8-B22C-8EFCD8182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572CD-5DCC-4294-AB2F-0786C6FDB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5DB32-B996-4777-BE62-E5B529A86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ACD44-02A0-4847-9DB9-BA2EA9F82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FF522-D4E2-4FC3-81BF-DFAD62045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F7F48-17FD-4537-A688-6BE690A9C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AAB0D-EA02-445E-A380-DE0976AA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13CFA-3E6C-4ACB-9DED-3DF4E84F7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5CF6-3A04-4B20-BBE8-536491AB8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45553-9DC6-4766-A64B-5ABC59583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B2E33-48B9-4E8F-8A2F-B1B7A0F7E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2800-0E14-48BE-A77F-E608FA88D8F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60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家で死にたい」</a:t>
            </a:r>
            <a:br>
              <a:rPr sz="4400"/>
            </a:br>
            <a:br>
              <a:rPr sz="4400"/>
            </a:br>
            <a:r>
              <a:rPr b="0" lang="ja-JP" sz="3600" spc="-1" strike="noStrike">
                <a:solidFill>
                  <a:srgbClr val="000000"/>
                </a:solidFill>
                <a:latin typeface="Times New Roman"/>
              </a:rPr>
              <a:t>その想いを叶えるために</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724280"/>
            <a:ext cx="640080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野坂医院　　野坂美仁</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　　　</a:t>
            </a:r>
            <a:r>
              <a:rPr b="0" lang="ja-JP" sz="4000" spc="-1" strike="noStrike" u="sng">
                <a:solidFill>
                  <a:srgbClr val="000000"/>
                </a:solidFill>
                <a:uFillTx/>
                <a:latin typeface="Times New Roman"/>
              </a:rPr>
              <a:t>「家で死にたい」に応える</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600" spc="-1" strike="noStrike">
                <a:solidFill>
                  <a:srgbClr val="000000"/>
                </a:solidFill>
                <a:latin typeface="Times New Roman"/>
              </a:rPr>
              <a:t>　「看取り」は人生を生き抜いた人の</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　　　　一つの壮大な儀式である</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元気な時から「死に方」について話し合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その人の「生きざま」を見つめなお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死ぬ」のではなく「あの世に逝く」</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335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死亡診断書・検案書数（野坂医院）</a:t>
            </a:r>
            <a:endParaRPr b="0" lang="en-US" sz="2800" spc="-1" strike="noStrike">
              <a:solidFill>
                <a:srgbClr val="000000"/>
              </a:solidFill>
              <a:latin typeface="Times New Roman"/>
            </a:endParaRPr>
          </a:p>
        </p:txBody>
      </p:sp>
      <p:graphicFrame>
        <p:nvGraphicFramePr>
          <p:cNvPr id="62" name=""/>
          <p:cNvGraphicFramePr/>
          <p:nvPr/>
        </p:nvGraphicFramePr>
        <p:xfrm>
          <a:off x="228600" y="1143000"/>
          <a:ext cx="8610480" cy="4952880"/>
        </p:xfrm>
        <a:graphic>
          <a:graphicData uri="http://schemas.openxmlformats.org/presentationml/2006/ole">
            <p:oleObj progId="Excel.Sheet.12" r:id="rId1" spid="">
              <p:embed/>
              <p:pic>
                <p:nvPicPr>
                  <p:cNvPr id="63" name="" descr=""/>
                  <p:cNvPicPr/>
                  <p:nvPr/>
                </p:nvPicPr>
                <p:blipFill>
                  <a:blip r:embed="rId2"/>
                  <a:stretch/>
                </p:blipFill>
                <p:spPr>
                  <a:xfrm>
                    <a:off x="228600" y="1143000"/>
                    <a:ext cx="8610480" cy="4952880"/>
                  </a:xfrm>
                  <a:prstGeom prst="rect">
                    <a:avLst/>
                  </a:prstGeom>
                  <a:ln w="0">
                    <a:noFill/>
                  </a:ln>
                </p:spPr>
              </p:pic>
            </p:oleObj>
          </a:graphicData>
        </a:graphic>
      </p:graphicFrame>
      <p:sp>
        <p:nvSpPr>
          <p:cNvPr id="3" name="PlaceHolder 2"/>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看取りのノウハウ</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死亡診断書を書けるのは医師・歯科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在宅医に誰でもなれ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訪問看護ステーショ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ケアマネ・包括</a:t>
            </a:r>
            <a:r>
              <a:rPr b="0" lang="ja-JP" sz="3200" spc="-1" strike="noStrike">
                <a:solidFill>
                  <a:srgbClr val="000000"/>
                </a:solidFill>
                <a:latin typeface="Times New Roman"/>
              </a:rPr>
              <a:t>C</a:t>
            </a:r>
            <a:r>
              <a:rPr b="0" lang="ja-JP" sz="3200" spc="-1" strike="noStrike">
                <a:solidFill>
                  <a:srgbClr val="000000"/>
                </a:solidFill>
                <a:latin typeface="Times New Roman"/>
              </a:rPr>
              <a:t>・介護に携わる人全て</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終わりが悪ければ、努力が報われな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家で死にたい」は贅沢？</a:t>
            </a:r>
            <a:endParaRPr b="0" lang="en-US" sz="32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　　　看取り文化の再生を！</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人生の最後</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考えたこと、話し合った事はあ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寿命」につい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自分の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家族の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友人・知人の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介護サービス利用者の死</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0000"/>
                </a:solidFill>
                <a:uFillTx/>
                <a:latin typeface="Times New Roman"/>
              </a:rPr>
              <a:t>「家で死にたい」　　その想い</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齢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そろそろ寿命。　もういつ死んでもいい。</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2400" spc="-1" strike="noStrike">
                <a:solidFill>
                  <a:srgbClr val="000000"/>
                </a:solidFill>
                <a:latin typeface="Times New Roman"/>
              </a:rPr>
              <a:t>どうせ死ぬのなら</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家族に見守られなが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でも、家族に迷惑をかけないように</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健やかに‥‥</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しかして現状は</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死」に直面する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不安・心配」。　だから病院へ</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病院は「看取りの場」では無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新聞記事】　　現場から：荒涼とした医療／神奈川</a:t>
            </a:r>
            <a:endParaRPr b="0" lang="en-US" sz="2400" spc="-1" strike="noStrike">
              <a:solidFill>
                <a:srgbClr val="000000"/>
              </a:solidFill>
              <a:latin typeface="Times New Roman"/>
            </a:endParaRPr>
          </a:p>
        </p:txBody>
      </p:sp>
      <p:sp>
        <p:nvSpPr>
          <p:cNvPr id="50" name="PlaceHolder 2"/>
          <p:cNvSpPr>
            <a:spLocks noGrp="1"/>
          </p:cNvSpPr>
          <p:nvPr>
            <p:ph/>
          </p:nvPr>
        </p:nvSpPr>
        <p:spPr>
          <a:xfrm>
            <a:off x="304560" y="1143000"/>
            <a:ext cx="838188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1" lang="ja-JP" sz="2400" spc="-1" strike="noStrike">
                <a:solidFill>
                  <a:srgbClr val="000000"/>
                </a:solidFill>
                <a:latin typeface="Times New Roman"/>
              </a:rPr>
              <a:t>4</a:t>
            </a:r>
            <a:r>
              <a:rPr b="1" lang="ja-JP" sz="2400" spc="-1" strike="noStrike">
                <a:solidFill>
                  <a:srgbClr val="000000"/>
                </a:solidFill>
                <a:latin typeface="Times New Roman"/>
              </a:rPr>
              <a:t>月中旬、漏水と脱水症状で救急搬送された父。受け入れ拒否の連続で</a:t>
            </a:r>
            <a:r>
              <a:rPr b="1" lang="ja-JP" sz="2400" spc="-1" strike="noStrike">
                <a:solidFill>
                  <a:srgbClr val="000000"/>
                </a:solidFill>
                <a:latin typeface="Times New Roman"/>
              </a:rPr>
              <a:t>6</a:t>
            </a:r>
            <a:r>
              <a:rPr b="1" lang="ja-JP" sz="2400" spc="-1" strike="noStrike">
                <a:solidFill>
                  <a:srgbClr val="000000"/>
                </a:solidFill>
                <a:latin typeface="Times New Roman"/>
              </a:rPr>
              <a:t>か所目の病院に入院し、点滴を受けたものの、</a:t>
            </a:r>
            <a:r>
              <a:rPr b="1" lang="ja-JP" sz="2400" spc="-1" strike="noStrike">
                <a:solidFill>
                  <a:srgbClr val="000000"/>
                </a:solidFill>
                <a:latin typeface="Times New Roman"/>
              </a:rPr>
              <a:t>38</a:t>
            </a:r>
            <a:r>
              <a:rPr b="1" lang="ja-JP" sz="2400" spc="-1" strike="noStrike">
                <a:solidFill>
                  <a:srgbClr val="000000"/>
                </a:solidFill>
                <a:latin typeface="Times New Roman"/>
              </a:rPr>
              <a:t>度台の熱が約一カ月間下がらなかった。　「このまま逝ってしまうのでは」と心配した▼「自分でものを食べられないというのは、生き物としての体を成していない」との主治医の説明。さらに「状態が更に悪くなった場合、人工呼吸器などの延命処置をしますか。処置を求めないご家族も多いですが」と言われた。延命処置を求めたが、回復する可能性の話も聞かせて欲しかった▼この一週間、幸い父の症状は安定した。しかし、口からものを食べるのはほんのわずかで、胃に穴をあけて栄養補給をしている。主治医は転院先の話をし始めた▼次々やってくる重症患者の為にベッドを空けなければならないのは分かる。延命処置の確認も必要なことだ。だが、医療の現場が荒涼としていることを感じざるを得なかった。【吉田勝】</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日本人の死生観</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人間はいつかは死ぬことは分かっている。</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では、自分は「どんな病気で」死にたい</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自分の望む「死に方」は？</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1" lang="ja-JP" sz="2400" spc="-1" strike="noStrike">
                <a:solidFill>
                  <a:srgbClr val="000000"/>
                </a:solidFill>
                <a:latin typeface="Times New Roman"/>
              </a:rPr>
              <a:t>自宅で看取られ・</a:t>
            </a:r>
            <a:r>
              <a:rPr b="1" lang="ja-JP" sz="2400" spc="-1" strike="noStrike">
                <a:solidFill>
                  <a:srgbClr val="000000"/>
                </a:solidFill>
                <a:latin typeface="Times New Roman"/>
              </a:rPr>
              <a:t>PPK</a:t>
            </a:r>
            <a:r>
              <a:rPr b="1" lang="ja-JP" sz="2400" spc="-1" strike="noStrike">
                <a:solidFill>
                  <a:srgbClr val="000000"/>
                </a:solidFill>
                <a:latin typeface="Times New Roman"/>
              </a:rPr>
              <a:t>・尊厳死・突然死・認知症、、、</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戦後日本人は「死」について考えることを避けて来た。　伝統の喪失。</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1" lang="ja-JP" sz="2400" spc="-1" strike="noStrike">
                <a:solidFill>
                  <a:srgbClr val="000000"/>
                </a:solidFill>
                <a:latin typeface="Times New Roman"/>
              </a:rPr>
              <a:t>外国では？</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在宅看取りの条件</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本人の意思</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死に向き合う」周囲の覚悟</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かかりつけ医の存在</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その他</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1" lang="ja-JP" sz="2400" spc="-1" strike="noStrike">
                <a:solidFill>
                  <a:srgbClr val="000000"/>
                </a:solidFill>
                <a:latin typeface="Times New Roman"/>
              </a:rPr>
              <a:t>介護するマンパワー</a:t>
            </a:r>
            <a:r>
              <a:rPr b="1" lang="ja-JP" sz="2400" spc="-1" strike="noStrike">
                <a:solidFill>
                  <a:srgbClr val="000000"/>
                </a:solidFill>
                <a:latin typeface="Times New Roman"/>
              </a:rPr>
              <a:t>(</a:t>
            </a:r>
            <a:r>
              <a:rPr b="1" lang="ja-JP" sz="2400" spc="-1" strike="noStrike">
                <a:solidFill>
                  <a:srgbClr val="000000"/>
                </a:solidFill>
                <a:latin typeface="Times New Roman"/>
              </a:rPr>
              <a:t>家族、訪問看護師、ヘルパー</a:t>
            </a:r>
            <a:r>
              <a:rPr b="1" lang="ja-JP"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大きな部屋・経済的余裕・介護に抵抗を示さないこと</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家族に愛されていること・・・等</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家で死ぬことのバリア</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死ぬまで医療を続けるという常識</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核家族化　　「おひとりさ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病気の苦痛」と「死」と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次元が違うことを混同</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臨死の身体状況の変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未知の「死」への不安</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在宅死」のシステム化の必要性</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増大する死亡者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病院医療現場の疲弊</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看取り」の伝承。　子供や若者へ</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在宅医・看取り医を増やす</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訪問看護ステーションのスキルアップ</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域ボランティアの活用</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死亡診断書からのデータ活用</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２０１０．７．１４</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22:31:17Z</dcterms:created>
  <dc:creator> bijin</dc:creator>
  <dc:description/>
  <dc:language>en-US</dc:language>
  <cp:lastModifiedBy> </cp:lastModifiedBy>
  <dcterms:modified xsi:type="dcterms:W3CDTF">2010-07-12T03:38:57Z</dcterms:modified>
  <cp:revision>5</cp:revision>
  <dc:subject/>
  <dc:title>「家で死にたい」 その想いを叶えるために</dc:title>
</cp:coreProperties>
</file>